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wmf" ContentType="image/x-wmf"/>
  <Override PartName="/ppt/media/image3.jpeg" ContentType="image/jpeg"/>
  <Override PartName="/ppt/media/image17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59C0-FD2A-44A8-A38F-C385EE000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31F8-7966-48FD-A072-03561EB3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0664-6A5F-4DAE-B664-08BBC9811362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975-24C1-4663-8C5C-3C11D6F9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98A-A71D-4BC2-A525-9E79C31A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7C8-998F-4DE1-AD66-7642E52F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A12-F5BF-48C8-9C46-B3066B84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F7CB-3147-4864-AF39-2215018C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193E-8DC9-48ED-AB4D-56F9DCDF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9F04-934F-4E81-A8C3-E4917C78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3F8D-AB45-4B66-AB08-BD3E19ED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CFE7-AB4D-4408-BA1D-3500344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EEEB-16CB-4814-B800-FD46D755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7768-CBB6-4D20-A5B1-5EE44829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981-0377-4D72-90E2-91863914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DB86-C314-414C-8C05-D3EB3C7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F3FA-F065-4DEB-8220-44AEB61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1CC4-73E9-4325-A7F5-AF913239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7DB-E33B-490E-AE7B-87DD4ABE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BC9B-6AD7-486F-BE77-6D4AF8FC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6B18-0C6F-4889-9E7F-0D42F9EC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632A-5D6C-41E0-BB5A-C329F48E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6C55-5A31-420C-A782-D9EA393C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FB1B-A16F-4FD7-903A-380F927F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F8DB-2CCC-40AA-B8F0-A87178CF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9B3-299F-4EAC-9A9C-C17807D7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D85B-C225-4644-8EF3-9570F52E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319C-6A29-47E5-B98D-D3A8408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9A62B-09CF-4337-A26F-E8EB24D2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C78A-5CB8-489D-9D60-6FF904C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8442-4127-4A4D-A8F1-2D4EF52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EF3F-7DEF-42B8-92F7-8FF5F9F6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BA53-DA04-47BB-8948-C929048F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73A2-F249-4C5B-B7C2-2CBF6264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24FD2-98DA-40C3-99F2-EAFDA447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1FAD-373D-4C38-9DDC-869C6675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1B8-3F24-4366-805B-6E41AEEC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856A-B549-4163-B49A-1F49EC95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C77F-CA02-483D-900E-B3530018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CBF0-BA38-4FEA-AA38-1C3A65C9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7939-5883-4570-9E62-14EAC1BD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3928-CCC6-4200-AF09-75C099B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1066-D681-4DC5-95CE-707FE36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B3A9-FA77-4825-A0BC-DD9238E0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5A0FE-0F81-442C-AF3F-16CB1FA4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E0A2-74A0-4748-8810-C2E389BA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276F5-4382-45C1-9824-30020DD0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6F6-36BE-412A-934A-FF88D62F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53C0E-791A-40E1-98B3-023C325D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0F9FF-A330-4A63-97D0-0564D834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AACE-AE63-44B5-9F66-2E794829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C3318-BE94-4BA9-ACB1-7774FD4A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90AD5-FE7F-46AE-8D42-29E2945B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ABA63-9B00-4BD2-A491-1ACCD9E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E28A-E4AF-4F6E-B1D0-26D1204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A6DA9-F41F-4A37-9EBF-3340B58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45C6F-0ABB-4333-AE46-5B0C9A03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2A6FF-AFBE-4313-974C-10126070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8DA-9AFA-416E-9E28-C0823DC9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4046D-84CE-4A71-AB2F-D7C9E551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69C1-4EE1-4DB7-A299-7666B6A3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BA8F1-7750-4413-9F6A-4F1405C4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4095-CE4C-459F-B58D-88C45615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A9C1B-3FF2-4968-8FA8-1777056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E2E2B-1126-4FFC-A334-A0D1EBC4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EBFA-7EEB-486B-B804-E3128AB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C5E1-EA21-46D1-B781-4C4B2B9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53BD-E23A-4335-856D-9D78705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F604C-D334-4F30-A35C-CC5E4BCC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0D3-E40F-4FDD-AA51-3FA8423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7D1E-D7EE-43CF-8ACB-EBD4051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9504F-68F1-43BC-8285-E39CF3FC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6B49-6976-49B5-BE77-7C66F2BB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999-DBD1-44E8-BA02-814222CC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967-0718-4353-B281-30164C38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5AEC-7318-4909-9AC2-9F8D6CB9793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F495-E8B5-42DA-8E2B-E42B98B53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4090-9937-4DCB-9CBF-67A6CA03A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E022-79C5-4633-8EC7-697419BB12B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028F-5529-40D1-8D52-97BEB051370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AA6-F508-47D4-9641-2F1ECAE7CE4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5.jpeg"/><Relationship Id="rId5" Type="http://schemas.openxmlformats.org/officeDocument/2006/relationships/image" Target="../media/image4.jpeg"/><Relationship Id="rId6" Type="http://schemas.openxmlformats.org/officeDocument/2006/relationships/image" Target="../media/image7.png"/><Relationship Id="rId7" Type="http://schemas.openxmlformats.org/officeDocument/2006/relationships/image" Target="../media/image12.jpeg"/><Relationship Id="rId8" Type="http://schemas.openxmlformats.org/officeDocument/2006/relationships/image" Target="../media/image11.jpeg"/><Relationship Id="rId9" Type="http://schemas.openxmlformats.org/officeDocument/2006/relationships/image" Target="../media/image6.jpeg"/><Relationship Id="rId10" Type="http://schemas.openxmlformats.org/officeDocument/2006/relationships/image" Target="../media/image14.png"/><Relationship Id="rId11" Type="http://schemas.openxmlformats.org/officeDocument/2006/relationships/image" Target="../media/image20.jpeg"/><Relationship Id="rId12" Type="http://schemas.openxmlformats.org/officeDocument/2006/relationships/image" Target="../media/image16.jpeg"/><Relationship Id="rId13" Type="http://schemas.openxmlformats.org/officeDocument/2006/relationships/image" Target="../media/image21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uralstress.ca/images/stress_graph.gi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981080" y="5486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333300"/>
                </a:solidFill>
                <a:latin typeface="Calibri"/>
              </a:rPr>
              <a:t>Nadine Tibbs-Stallwor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162920" y="533520"/>
          <a:ext cx="2647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33520"/>
                    <a:ext cx="2647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Group 9"/>
          <p:cNvGrpSpPr/>
          <p:nvPr/>
        </p:nvGrpSpPr>
        <p:grpSpPr>
          <a:xfrm>
            <a:off x="1447920" y="1066680"/>
            <a:ext cx="6400800" cy="5105520"/>
            <a:chOff x="1447920" y="1066680"/>
            <a:chExt cx="6400800" cy="5105520"/>
          </a:xfrm>
        </p:grpSpPr>
        <p:sp>
          <p:nvSpPr>
            <p:cNvPr id="257" name="Rectangle 5"/>
            <p:cNvSpPr/>
            <p:nvPr/>
          </p:nvSpPr>
          <p:spPr>
            <a:xfrm>
              <a:off x="1676520" y="2438280"/>
              <a:ext cx="3124080" cy="3733920"/>
            </a:xfrm>
            <a:prstGeom prst="rect">
              <a:avLst/>
            </a:prstGeom>
            <a:solidFill>
              <a:srgbClr val="a6c85e"/>
            </a:solidFill>
            <a:ln w="25560">
              <a:solidFill>
                <a:srgbClr val="7992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4343400" y="1066680"/>
              <a:ext cx="3505320" cy="3733920"/>
            </a:xfrm>
            <a:prstGeom prst="rect">
              <a:avLst/>
            </a:prstGeom>
            <a:gradFill rotWithShape="0">
              <a:gsLst>
                <a:gs pos="0">
                  <a:srgbClr val="e4f9ff"/>
                </a:gs>
                <a:gs pos="100000">
                  <a:srgbClr val="9eeaff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1447920" y="2253960"/>
              <a:ext cx="6096240" cy="703440"/>
            </a:xfrm>
            <a:prstGeom prst="rect">
              <a:avLst/>
            </a:prstGeom>
            <a:gradFill rotWithShape="0">
              <a:gsLst>
                <a:gs pos="0">
                  <a:srgbClr val="e1ff9b"/>
                </a:gs>
                <a:gs pos="100000">
                  <a:srgbClr val="acd84e"/>
                </a:gs>
              </a:gsLst>
              <a:lin ang="5400000"/>
            </a:gradFill>
            <a:ln w="9360">
              <a:solidFill>
                <a:srgbClr val="a3c6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Rockwell"/>
                </a:rPr>
                <a:t>Stress Management</a:t>
              </a:r>
              <a:endParaRPr b="0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tresses You Ou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655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ealth/Medic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Lack of Fre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Job related stre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work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overcrow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lack of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lack of on the job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6" descr="stress.jpg"/>
          <p:cNvPicPr/>
          <p:nvPr/>
        </p:nvPicPr>
        <p:blipFill>
          <a:blip r:embed="rId1"/>
          <a:stretch/>
        </p:blipFill>
        <p:spPr>
          <a:xfrm>
            <a:off x="5181480" y="1371600"/>
            <a:ext cx="3276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StressedOut-1.JPG"/>
          <p:cNvPicPr/>
          <p:nvPr/>
        </p:nvPicPr>
        <p:blipFill>
          <a:blip r:embed="rId1"/>
          <a:stretch/>
        </p:blipFill>
        <p:spPr>
          <a:xfrm>
            <a:off x="1828800" y="152280"/>
            <a:ext cx="518148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hysic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ress Sig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09120" y="2057040"/>
            <a:ext cx="377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Increased heart rate/ 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ncreased blood 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Muscles tight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Cold clammy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Sleepless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Longer recovery from inj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419360" y="1980720"/>
            <a:ext cx="39812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tomach or bowel up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Head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Back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hange in eating habits:  lost of appetite/over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Restlessness/irri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ncreased 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mind.jpg"/>
          <p:cNvPicPr/>
          <p:nvPr/>
        </p:nvPicPr>
        <p:blipFill>
          <a:blip r:embed="rId1"/>
          <a:stretch/>
        </p:blipFill>
        <p:spPr>
          <a:xfrm>
            <a:off x="4038480" y="1066680"/>
            <a:ext cx="1158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Menta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Stress Sig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981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Anx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Forgetful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Depre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Apathy/ lack of 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Confu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724280" y="19807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Lowered self-este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ncreased a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Excessive f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Decreased self-conf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mind.jpg"/>
          <p:cNvPicPr/>
          <p:nvPr/>
        </p:nvPicPr>
        <p:blipFill>
          <a:blip r:embed="rId1"/>
          <a:stretch/>
        </p:blipFill>
        <p:spPr>
          <a:xfrm>
            <a:off x="3809880" y="1143000"/>
            <a:ext cx="1158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Behavioura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Signs of St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980720"/>
            <a:ext cx="441972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Hos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Irri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Under/over 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Decreased ability to concen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Memory problems /forget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Frequent use of cigarettes or alcoh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02884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lum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Withdrawal from usual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Poor performanc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Absenteeis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High accident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Making more mist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4" descr="mind.jpg"/>
          <p:cNvPicPr/>
          <p:nvPr/>
        </p:nvPicPr>
        <p:blipFill>
          <a:blip r:embed="rId1"/>
          <a:stretch/>
        </p:blipFill>
        <p:spPr>
          <a:xfrm>
            <a:off x="4038480" y="1219320"/>
            <a:ext cx="115884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649TN.png"/>
          <p:cNvPicPr/>
          <p:nvPr/>
        </p:nvPicPr>
        <p:blipFill>
          <a:blip r:embed="rId1"/>
          <a:stretch/>
        </p:blipFill>
        <p:spPr>
          <a:xfrm>
            <a:off x="1676520" y="1905120"/>
            <a:ext cx="6648480" cy="35496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586728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St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 on health of an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Back 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ead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tomach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igh Blood Press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eart Attack or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90f1c6f0d3d49eb6.jpg"/>
          <p:cNvPicPr/>
          <p:nvPr/>
        </p:nvPicPr>
        <p:blipFill>
          <a:blip r:embed="rId1"/>
          <a:stretch/>
        </p:blipFill>
        <p:spPr>
          <a:xfrm>
            <a:off x="380880" y="685800"/>
            <a:ext cx="4116600" cy="54100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9000" y="4723920"/>
            <a:ext cx="54864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Manage St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tal Techniq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572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im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Orga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roblem solving attit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hink Po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6" descr="d37428cd5a7aaff4.jpg"/>
          <p:cNvPicPr/>
          <p:nvPr/>
        </p:nvPicPr>
        <p:blipFill>
          <a:blip r:embed="rId1"/>
          <a:stretch/>
        </p:blipFill>
        <p:spPr>
          <a:xfrm>
            <a:off x="5562720" y="1905120"/>
            <a:ext cx="3124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Your Inner Pe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05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obb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Va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Next Generation Funk.mp3" descr=""/>
          <p:cNvPicPr/>
          <p:nvPr/>
        </p:nvPicPr>
        <p:blipFill>
          <a:blip r:embed="rId1"/>
          <a:stretch/>
        </p:blipFill>
        <p:spPr>
          <a:xfrm>
            <a:off x="8610480" y="6477120"/>
            <a:ext cx="2127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798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What is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Impa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Managing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5" descr="stressed_man"/>
          <p:cNvPicPr/>
          <p:nvPr/>
        </p:nvPicPr>
        <p:blipFill>
          <a:blip r:embed="rId1"/>
          <a:stretch/>
        </p:blipFill>
        <p:spPr>
          <a:xfrm>
            <a:off x="4800600" y="1676520"/>
            <a:ext cx="2843280" cy="3824280"/>
          </a:xfrm>
          <a:prstGeom prst="rect">
            <a:avLst/>
          </a:prstGeom>
          <a:ln w="0">
            <a:noFill/>
          </a:ln>
        </p:spPr>
      </p:pic>
      <p:sp>
        <p:nvSpPr>
          <p:cNvPr id="263" name="Action Button: Custom 4"/>
          <p:cNvSpPr/>
          <p:nvPr/>
        </p:nvSpPr>
        <p:spPr>
          <a:xfrm flipV="1" rot="10800000">
            <a:off x="7772400" y="5713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hysical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Body Scan – “relax-let g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Deep brea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Med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Laugh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5181480" y="2666880"/>
          <a:ext cx="2914920" cy="23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666880"/>
                    <a:ext cx="291492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" Success belongs to those individual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who can look at the complex challeng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offered by the Worl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as </a:t>
            </a:r>
            <a:r>
              <a:rPr b="1" i="1" lang="en-GB" sz="3600" spc="-1" strike="noStrike">
                <a:solidFill>
                  <a:srgbClr val="333300"/>
                </a:solidFill>
                <a:latin typeface="Calibri"/>
              </a:rPr>
              <a:t>Inspiration</a:t>
            </a: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.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6" descr="j0302953"/>
          <p:cNvPicPr/>
          <p:nvPr/>
        </p:nvPicPr>
        <p:blipFill>
          <a:blip r:embed="rId1"/>
          <a:stretch/>
        </p:blipFill>
        <p:spPr>
          <a:xfrm>
            <a:off x="6858000" y="3733920"/>
            <a:ext cx="1849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Number One.mp3" descr=""/>
          <p:cNvPicPr/>
          <p:nvPr/>
        </p:nvPicPr>
        <p:blipFill>
          <a:blip r:embed="rId1"/>
          <a:stretch/>
        </p:blipFill>
        <p:spPr>
          <a:xfrm rot="10800000">
            <a:off x="4800240" y="3657600"/>
            <a:ext cx="1143000" cy="86832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ff53557c4bb1b002.jpg"/>
          <p:cNvPicPr/>
          <p:nvPr/>
        </p:nvPicPr>
        <p:blipFill>
          <a:blip r:embed="rId2"/>
          <a:srcRect l="-17701" t="0" r="-17701" b="0"/>
          <a:stretch/>
        </p:blipFill>
        <p:spPr>
          <a:xfrm>
            <a:off x="6858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373b2bf4f9d8d8da.jpg"/>
          <p:cNvPicPr/>
          <p:nvPr/>
        </p:nvPicPr>
        <p:blipFill>
          <a:blip r:embed="rId3"/>
          <a:stretch/>
        </p:blipFill>
        <p:spPr>
          <a:xfrm>
            <a:off x="7556400" y="2610000"/>
            <a:ext cx="1016280" cy="1587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90f1c6f0d3d49eb6.jpg"/>
          <p:cNvPicPr/>
          <p:nvPr/>
        </p:nvPicPr>
        <p:blipFill>
          <a:blip r:embed="rId4"/>
          <a:stretch/>
        </p:blipFill>
        <p:spPr>
          <a:xfrm>
            <a:off x="5327640" y="1282680"/>
            <a:ext cx="1333440" cy="1778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ed4119622053feb2.jpg"/>
          <p:cNvPicPr/>
          <p:nvPr/>
        </p:nvPicPr>
        <p:blipFill>
          <a:blip r:embed="rId5"/>
          <a:stretch/>
        </p:blipFill>
        <p:spPr>
          <a:xfrm>
            <a:off x="5524560" y="4083120"/>
            <a:ext cx="1650960" cy="1231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stress.png"/>
          <p:cNvPicPr/>
          <p:nvPr/>
        </p:nvPicPr>
        <p:blipFill>
          <a:blip r:embed="rId6"/>
          <a:stretch/>
        </p:blipFill>
        <p:spPr>
          <a:xfrm>
            <a:off x="2286000" y="0"/>
            <a:ext cx="2585880" cy="2438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StressedOut-1.JPG"/>
          <p:cNvPicPr/>
          <p:nvPr/>
        </p:nvPicPr>
        <p:blipFill>
          <a:blip r:embed="rId7"/>
          <a:stretch/>
        </p:blipFill>
        <p:spPr>
          <a:xfrm>
            <a:off x="6934320" y="152280"/>
            <a:ext cx="1920600" cy="2438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stress.jpg"/>
          <p:cNvPicPr/>
          <p:nvPr/>
        </p:nvPicPr>
        <p:blipFill>
          <a:blip r:embed="rId8"/>
          <a:stretch/>
        </p:blipFill>
        <p:spPr>
          <a:xfrm>
            <a:off x="0" y="3365640"/>
            <a:ext cx="2448000" cy="3492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8f7b7418f5d6e920.jpg"/>
          <p:cNvPicPr/>
          <p:nvPr/>
        </p:nvPicPr>
        <p:blipFill>
          <a:blip r:embed="rId9"/>
          <a:stretch/>
        </p:blipFill>
        <p:spPr>
          <a:xfrm>
            <a:off x="1981080" y="4876920"/>
            <a:ext cx="1778040" cy="1447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649TN.png"/>
          <p:cNvPicPr/>
          <p:nvPr/>
        </p:nvPicPr>
        <p:blipFill>
          <a:blip r:embed="rId10"/>
          <a:stretch/>
        </p:blipFill>
        <p:spPr>
          <a:xfrm>
            <a:off x="533520" y="2193840"/>
            <a:ext cx="1955520" cy="1044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ed6fbb60f5f4c3ae-1.jpg"/>
          <p:cNvPicPr/>
          <p:nvPr/>
        </p:nvPicPr>
        <p:blipFill>
          <a:blip r:embed="rId11"/>
          <a:stretch/>
        </p:blipFill>
        <p:spPr>
          <a:xfrm>
            <a:off x="6896160" y="5232240"/>
            <a:ext cx="1650960" cy="965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d37428cd5a7aaff4.jpg"/>
          <p:cNvPicPr/>
          <p:nvPr/>
        </p:nvPicPr>
        <p:blipFill>
          <a:blip r:embed="rId12"/>
          <a:stretch/>
        </p:blipFill>
        <p:spPr>
          <a:xfrm>
            <a:off x="380880" y="228600"/>
            <a:ext cx="1549440" cy="1587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5fad5f5937c9f458.jpg"/>
          <p:cNvPicPr/>
          <p:nvPr/>
        </p:nvPicPr>
        <p:blipFill>
          <a:blip r:embed="rId13"/>
          <a:stretch/>
        </p:blipFill>
        <p:spPr>
          <a:xfrm>
            <a:off x="7493040" y="4267080"/>
            <a:ext cx="1650960" cy="1206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mind.jpg"/>
          <p:cNvPicPr/>
          <p:nvPr/>
        </p:nvPicPr>
        <p:blipFill>
          <a:blip r:embed="rId14"/>
          <a:stretch/>
        </p:blipFill>
        <p:spPr>
          <a:xfrm>
            <a:off x="4724280" y="5530680"/>
            <a:ext cx="169884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455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828800" y="320040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tress is part of our everyday lif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Living in a fast-paced, technological society with innumerable demands upon our time, the majority of people can state:  “I am stressed ou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5" descr="ed4119622053feb2.jpg"/>
          <p:cNvPicPr/>
          <p:nvPr/>
        </p:nvPicPr>
        <p:blipFill>
          <a:blip r:embed="rId1"/>
          <a:stretch/>
        </p:blipFill>
        <p:spPr>
          <a:xfrm>
            <a:off x="2743200" y="380880"/>
            <a:ext cx="3848040" cy="2872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St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Rectangle 3" descr=""/>
          <p:cNvPicPr/>
          <p:nvPr/>
        </p:nvPicPr>
        <p:blipFill>
          <a:blip r:embed="rId1"/>
          <a:stretch/>
        </p:blipFill>
        <p:spPr>
          <a:xfrm>
            <a:off x="530280" y="2206800"/>
            <a:ext cx="8315280" cy="396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8f7b7418f5d6e920.jpg"/>
          <p:cNvPicPr/>
          <p:nvPr/>
        </p:nvPicPr>
        <p:blipFill>
          <a:blip r:embed="rId2"/>
          <a:stretch/>
        </p:blipFill>
        <p:spPr>
          <a:xfrm>
            <a:off x="6400800" y="380880"/>
            <a:ext cx="234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Str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600200" y="2666880"/>
            <a:ext cx="632448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day fact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tress can be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ssive stress can be harm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3962520" y="480060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73" name="Picture 5" descr="stress.png"/>
          <p:cNvPicPr/>
          <p:nvPr/>
        </p:nvPicPr>
        <p:blipFill>
          <a:blip r:embed="rId1"/>
          <a:stretch/>
        </p:blipFill>
        <p:spPr>
          <a:xfrm>
            <a:off x="5638680" y="152280"/>
            <a:ext cx="33339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Relationship Betwe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 and St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7911720" y="5562720"/>
            <a:ext cx="69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914400" y="5334120"/>
            <a:ext cx="17524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poor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914400" y="1828800"/>
            <a:ext cx="17524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excellent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1905120" y="2057400"/>
            <a:ext cx="5943240" cy="3587400"/>
            <a:chOff x="1905120" y="2057400"/>
            <a:chExt cx="5943240" cy="3587400"/>
          </a:xfrm>
        </p:grpSpPr>
        <p:sp>
          <p:nvSpPr>
            <p:cNvPr id="279" name="Rectangle 4"/>
            <p:cNvSpPr/>
            <p:nvPr/>
          </p:nvSpPr>
          <p:spPr>
            <a:xfrm>
              <a:off x="3128040" y="2057400"/>
              <a:ext cx="1491480" cy="2823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>
              <a:off x="4629960" y="2057400"/>
              <a:ext cx="1491480" cy="282384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6136920" y="2057400"/>
              <a:ext cx="1491480" cy="2823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2689920" y="2057400"/>
              <a:ext cx="0" cy="3049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 flipH="1">
              <a:off x="3127680" y="5220360"/>
              <a:ext cx="4568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3002760" y="4881240"/>
              <a:ext cx="62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 rot="16200000">
              <a:off x="1661040" y="3148200"/>
              <a:ext cx="12988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Level 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Arc 15"/>
            <p:cNvSpPr/>
            <p:nvPr/>
          </p:nvSpPr>
          <p:spPr>
            <a:xfrm>
              <a:off x="3445920" y="2621880"/>
              <a:ext cx="3920400" cy="2259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7" name="Rectangle 16"/>
            <p:cNvSpPr/>
            <p:nvPr/>
          </p:nvSpPr>
          <p:spPr>
            <a:xfrm>
              <a:off x="2912040" y="2057400"/>
              <a:ext cx="189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Book Antiqua"/>
                </a:rPr>
                <a:t>Too Little Stres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8" name="Rectangle 17"/>
            <p:cNvSpPr/>
            <p:nvPr/>
          </p:nvSpPr>
          <p:spPr>
            <a:xfrm>
              <a:off x="4419720" y="2057400"/>
              <a:ext cx="192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Book Antiqua"/>
                </a:rPr>
                <a:t>Optimum Stres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5942880" y="2057400"/>
              <a:ext cx="1905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Book Antiqua"/>
                </a:rPr>
                <a:t>Excessive Stres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Line 19"/>
            <p:cNvSpPr/>
            <p:nvPr/>
          </p:nvSpPr>
          <p:spPr>
            <a:xfrm>
              <a:off x="5318280" y="2283120"/>
              <a:ext cx="0" cy="282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5130360" y="5276520"/>
              <a:ext cx="93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Book Antiqua"/>
                </a:rPr>
                <a:t>Stres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stress_graph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8320" y="457200"/>
            <a:ext cx="7936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tress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5640" y="3352680"/>
            <a:ext cx="47242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concen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izes you into 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3" descr="ff53557c4bb1b002.jpg"/>
          <p:cNvPicPr/>
          <p:nvPr/>
        </p:nvPicPr>
        <p:blipFill>
          <a:blip r:embed="rId1"/>
          <a:stretch/>
        </p:blipFill>
        <p:spPr>
          <a:xfrm>
            <a:off x="3048120" y="1295280"/>
            <a:ext cx="2455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Negativ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Stress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1760" y="35053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s of 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s effec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, mental, and behavioural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373b2bf4f9d8d8da.jpg"/>
          <p:cNvPicPr/>
          <p:nvPr/>
        </p:nvPicPr>
        <p:blipFill>
          <a:blip r:embed="rId1"/>
          <a:stretch/>
        </p:blipFill>
        <p:spPr>
          <a:xfrm>
            <a:off x="4216320" y="1187280"/>
            <a:ext cx="14223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6:03:29Z</dcterms:created>
  <dc:creator>Satyajeet Singh</dc:creator>
  <dc:description/>
  <dc:language>en-US</dc:language>
  <cp:lastModifiedBy>College of Education</cp:lastModifiedBy>
  <cp:lastPrinted>2007-02-10T18:32:45Z</cp:lastPrinted>
  <dcterms:modified xsi:type="dcterms:W3CDTF">2009-07-25T19:33:53Z</dcterms:modified>
  <cp:revision>50</cp:revision>
  <dc:subject/>
  <dc:title>Stress Management</dc:title>
</cp:coreProperties>
</file>